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F0E-3587-44BC-8FA5-305888A0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5B4-11EF-4058-84AA-069BD8DC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6A5F9-183F-4FF8-B37A-6D75B841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5C223-2BBA-4527-97E0-D3E1AE63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A79D6-738B-4441-BE8A-1963930B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F6808-0716-4E07-BC2D-4D669E31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1CFC0-5F56-476A-BB19-8C2A631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E833A-3463-45FD-B4FA-A6A05A7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0D025-E7E6-4CA5-9A48-1F93E6CD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8CD4F-F44F-4BEB-9A4E-F4ADA378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52613-38B7-4174-826A-6082AF95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8566E-7C0F-4F0D-8327-4ED7AAE2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24F-4231-4877-8B19-0A504B42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8B672-19DD-41A3-B5C7-4E20D4D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09565-D528-4DA6-8C05-5CB4790F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22E2D-1675-489F-9B39-F34C2503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BD3E9-F353-43C4-B9AE-D59689CF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A3FF5-C8D8-4516-ACC1-B7D12CEA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EF233-F717-4D78-B173-F24346D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07755-FAE0-4DA6-9449-AC2A4F93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4693E-3C1B-4649-BF00-D72E022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E1636-6446-4171-BACA-1423A24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4DDC0-808A-4A33-90E6-2E9DEE14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1C9-A23F-431D-93A9-0AB3AED5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153C0-119D-4A1A-B1B3-C4BFB0D4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5803-E272-4051-A89C-2A1ABACA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84F36-DF7B-4B11-8339-0443E9F3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901C7-7058-4493-8352-3EB6210B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81BA1-3981-4841-99F0-49428A38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BF804-694E-4F02-8C4C-686791E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64C9F-F87B-46CF-855A-0AD81132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FF9E2-7034-4966-BBCA-DCCBB2A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77D2E-BF5D-4B2B-9DAA-B94F726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E3C08-B5E3-4AC3-8954-162EDC5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A5D3-A7D8-46DF-BF40-944568E7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6C947-148A-42FD-9721-9C7FEE4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04F9E-79F8-4FD2-9860-601823D1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45CDD-80A0-4F9D-997C-D6A93299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47AA6-3928-45F1-A8F5-777A1D5D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725F0-DD69-4ECF-BE26-183545FE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CDB99-F3EA-48D9-B11D-BAFE6592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3EC03-A7A1-42BB-8DEB-65F430A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CFF81-BA72-4763-91D1-BE58B4D2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363A7-DD3B-46BE-9A63-45CA75C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71BC1-A6E5-4E09-BCA5-E980E30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D6B-7E70-4072-A9F5-35C321B3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FB5A7-C0C3-4049-948F-D731F0E3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F2B9E-43E1-43E4-8E55-34DE3B6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D7222-A69C-40F7-9A05-A1272D55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E94ED-BD9B-4405-8406-F6125BAF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8966C-B075-46D1-B3B8-9F974CE3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EBA68-1FCA-42D4-A053-79A8037A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C315D-B063-4ADF-AEC5-7F91F364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E7631-B917-4615-BFDA-3344BFC0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2C2BB-97B9-4F8F-AE79-70530652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B62DF-AD4B-4BF7-B894-8665ABF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D5A7-1654-4C05-8317-EAA7BAE8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1089F-BC31-4AB1-9BD5-4675F8E7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72FBD-1055-41DA-BA28-10843D9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938CE-A6BB-4E66-A86E-C825210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E93D4-5344-4DA2-9267-BA4DAD7B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2327D-E14F-4062-B5A4-113CF1EB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72F7F-1463-4881-9C11-3727419B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61759-CD63-42A1-BA82-07752E7A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2BE88-83C6-4141-B0DC-45ECD8C0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22287-EAE2-4CBC-B49D-5C223ED1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A3F35-082F-49F4-9562-720F528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132A-073E-4283-9EF0-731898EB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D2658-AD32-4734-B98D-AB764C55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923C9-3655-4B0A-B45A-816F623C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BB18B-F2A0-4B4D-AD19-7BCDE739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B4738-87E5-49CA-A89E-B2E065C1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88552-57FD-438A-879A-37239D0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DFAA5-0E90-4324-9609-6E486C00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A2D50-EBB3-470A-9F0B-584D5F40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EE5EB-83A8-4A74-886B-1A4A5B1E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45D02-9602-42F0-9B7C-CDEAB3DB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EF80F-4AF2-4AF0-A89B-286E8000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7D7-CB2A-46EB-ABEB-AD5C512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97FF8-4691-48E7-86CE-6E4ED778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7C2DA-C567-44FA-BF54-A722DC0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C98A3-0227-4E9E-BA9A-E3E9289D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43878-B88B-4C98-AFB2-51A4CDA8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FD34F-D907-428B-94C4-0DD0A05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1B919-902A-4C76-A4D8-15D267E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3F93E-58DA-4556-BF26-5FDAD08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A328-02CD-4E8D-A1A5-E6AB6D5C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E3DCE-3854-44C0-A2D0-FEA9DEDA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9B2B5-75EE-4915-87F0-E5FB5F62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109-4168-47A0-AA25-55DACE5E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58457-7FB8-4AB9-8D07-A86320AA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7EF07-8D06-4497-966C-B3EF53DD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27380-1A04-4274-9E47-29FF9EC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163C9-A92B-45F1-8DDE-B091FA6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77254-58F3-4E75-8F3E-BC23194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3A198-4050-46C6-B2E4-0EBAF6B0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785DB-606D-4513-A07C-8CEA887F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FAE94-78DC-4E36-BEE9-0243538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5740D-E788-4E5F-A63B-A430C9F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0CC9C-FFE4-4277-B4D4-944E711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B2CA-333B-41AC-ACBA-0A637DE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6F15C-29A4-42DF-8777-BFAE7B8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96A6A0-07D8-42FA-BCEE-225BB4FC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65DDB-5FE4-4B9C-B4E8-7A703903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215A8-99B3-49CF-BEF9-9842176B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F4C70-5244-4508-B51D-C97BA36F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42C21-B922-4E2E-926B-CE5E5897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742D4-2EB7-45B4-A5DB-77FF3064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AC04E-290F-471C-840A-541445ED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ABFD6-9861-4837-B375-A5498C63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D6AD6-73E2-4076-861D-5AF5573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852-3723-45BF-9270-D6D5D7C3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E8E7-9E72-45C9-9A8A-9ADFD6C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44F5B-7AB7-4C92-8A66-31358BB2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8AAD0-245B-4CDC-8250-68118E8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40C46-39E4-40B5-8B90-B601ED5D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A934E-4EC8-4E04-8104-319C857A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5D306-7908-4FCB-9F85-BAB38EC0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C25E8-FE0A-480A-8A24-9F46FE99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19049-001F-4BAC-98A1-68C7E7D1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20AD1-E329-4BFE-8093-2781B5B3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3B526-0A72-44CC-B7D9-3CD5158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2A2A57-E7E9-4B88-9183-D6CD7BE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B271-C3D8-4211-93D7-A365BB45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8EAA1-B6A2-48F0-A453-02B5EA74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17DAB-5E33-43F1-AE36-A43A821B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92DC0-B718-4610-AB67-7F5F75C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2172F-6EE4-4DA7-B982-58AA853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AFB03-559E-4B17-B754-E158C3F8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83277-95D8-41CA-8AAF-B7610AB5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24326-789D-4424-8B60-60A47FB9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38E41-E8A4-4712-AF3D-EC91B34B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E4B56-07C5-4B45-8A1C-430E0C0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AE634E-8117-4CF4-AF6F-EA1B8C7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67D4-B597-4BBD-8C63-4F9C22D0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6476D-A65D-475E-8903-C1A1891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F6A65-72BA-41DA-BCC4-E13C66D1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0CCEC-C4CE-454C-A677-CB26F7F3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7B2411-BBF5-4BAC-8B84-0F97B1AC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8CB7A-1BBA-4807-8193-E9B4C426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56F9B-6B71-4DD1-AD1E-EE6F63F1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2B87F-671F-4E13-B588-E9E62C0E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FBB80-1A9D-4745-9996-2B48EE6E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F0AD6-A0E4-401E-88EE-76E08AEC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DEC550-7B80-49B6-896C-17CA088D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4E01-E8CA-4AA9-B255-FE959CAF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4F350-CA09-4641-9E24-C4C3D581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965333-2AAD-4C38-839E-FA308B60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C1EB5-D8D1-442B-99CD-38279489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C6500-3A15-4433-A977-7EA17CCA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FC287-725D-4516-8C92-0BC6C48A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AEA87-8CA2-494D-A01A-6602A9FB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58950-B47B-4166-A819-7D2FB0DE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95286-50F2-4DE1-8665-4A23B1C4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B4E9A-F86C-41C5-911C-5F0149AE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B4E6E-771A-4A6E-B688-8D65178A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1312-8668-4E2B-A1F1-CBA38E1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0F338-E28C-48A0-A4AD-04264866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AC462-9F8B-4B7D-AD2A-C98EEE23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A22F4-2DDB-45C4-ABF9-CD2CEB7F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EA9FE-3272-4866-8426-66BC0E2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FED50E-50AB-487A-89A4-05312927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4A69C0-666E-4232-B197-5F50CE61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F0363-2714-4526-8827-9DA7DF8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F819F-B45A-4F0C-A333-24C70E9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A8341-CE9D-4B29-B90F-30D53EE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EC7D2-91E7-4D74-86E2-718C59B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447A-CAC2-44EB-90C5-230193ED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24647-EC9D-44E2-99D4-4EE977F4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2DCF4-8AAE-4751-AC7D-ECE45271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99A07-7BCB-4592-B3F0-D8FB3FF5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7C37B-19D8-4316-8F52-6AD76264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50D9F-F983-49AC-B01C-8B494EB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BF3AFD-FB6D-47B1-BB83-FF445ED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763DF3-44C3-4177-843D-CC36E2BF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4B2522-E3DB-49B4-87C1-20080A9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A00EE-373E-436B-A25B-58A6047A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22BEE-C0ED-4121-8A9D-33E225D9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1D63-FBE3-4065-A8C9-E05629D3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CAF4E-1D9C-417A-BAEE-2AACD391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D82701-C476-4CF2-8F04-89CFAF5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684CE2-198D-455E-8317-79D721E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8F98F-9CD7-492C-91E1-9B927C51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EF63D0-F34B-4BFF-BED3-130B4A89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E0E72-99B7-4365-9AA0-36DAE798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6773C-6444-44E2-BECA-5A4B1C42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20071C-3FBE-402E-95C6-A14EAEDF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38D13E-D276-4B01-B4B4-F4B771B3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D51A6-0C04-45DD-A4C4-0D917C89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1664-F9FB-401A-965C-62CA4C08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7F703C-E7F0-472E-97C6-5405650C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D78398-E7C5-4CC0-B09C-051130A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8ACFA-5D4A-4959-BB13-85D2285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6B7962-50C0-49A6-9A79-BD5C0193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246E2B-9D86-49D1-8B6B-98781471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BE2B02-B3F4-484D-A98E-C8019B34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1B80B-E28E-4BCB-84AF-AA8A46C4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83121A-3AF5-4780-B015-136A6E5B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7A45D-F2DB-4B7A-8A80-CB0A4E6A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E4E3DF-18B8-4CFB-836F-A3CFE68E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CD32-3411-47C3-ABB3-A7630D06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497962-6F38-49E2-970D-C51E81C6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54FBE4-E8A9-46CB-B479-6F60774C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279EA0-8DB4-4C3D-84CB-C1E4C3FF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E14171-1E95-4426-9D99-A6B9685B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ACF7B-3B7F-48A1-84F5-DC1F60CC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F485D0-AC6E-470B-8CD6-661D1E21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715C76-E98F-4BE8-BF14-AE02844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9F5A52-2F5B-4611-9E41-22A8DA6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D34FFD-47F4-43C2-860F-A74F421E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4E0C33-AF81-480C-8CBB-E5124252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23EA-07F2-4094-9634-11F4A428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4C6EBC-8905-418E-BAA4-C5C1464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7C694D-0713-4641-9764-60183855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7B6EED-70EE-4A34-A881-FA76367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E01E82-36F8-4CA6-BA1F-AB631DB8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C6D78A-6A41-4307-A7F5-CE14EAFA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AD21BF-5378-4CE6-B33E-BC4E281B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46C53B-3D6B-46B0-9649-8A4FBCBE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479D16-77D1-4906-AB19-79B8867D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C121EF-CDE9-49B6-8207-C4A73281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8A4AF2-E6A8-473C-BD66-91F20098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237-772B-467C-857D-1F08F18F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D4A9-CAE9-46C2-82E7-6F119551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25C65E-1154-4D2D-924E-BEC6C5D7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CA6B8F-DE32-429B-BF97-F0B3A989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2EEFAC-3DF6-41B6-B9D0-17FD8AB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0EC0E4-5CEA-42A2-99FC-C4314B43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F20DE4-9850-4A83-B8B5-19721C6E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D6AF8C-2C61-49FD-AD95-4550C387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F86A6B-0A04-42B8-92F5-D327D87D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4E1096-63D0-4442-8F49-EFF350F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1CF19E-B834-4F77-8A2F-D0313450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61FDD1-E336-4441-A1A8-4A00D97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B61E-D39D-4875-A1C2-DCE8D189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030671-884F-418E-8FD9-01257921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3E9919-03A7-4B3F-BB74-57898914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956DED-0845-4353-B2B1-58F9D238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3DE1A7-B69F-4239-A24D-1E186615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B9F32D-AE6B-4520-9E93-AB85E437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0DEB98-9382-4C57-A8E9-CA15894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980758-545C-4834-B886-2F139FBC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4B93C2-4ADC-440E-8609-6FFA02B4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1B09AB-13E6-4A9F-8733-F200990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808A3D-AEA3-446E-8FDB-D28DCD2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379E-031D-426D-90BB-B63AD1B8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FAED21-2A34-4355-BCE0-2660E867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AB3D0D-C7EC-40B9-992E-1071565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05EC9C-0769-4358-AADF-D4C64D6D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5E139E-94EE-40CF-B365-2B42D80D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E60F69-F2CD-4E67-B2AC-CD788D41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B713FB-042C-402A-9692-3BAEF614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50DFD9-1206-4291-A3BB-D09B659D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DACCF9-7098-4FCE-9A7C-95A922ED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311448-B14C-40EE-8E8A-82A067F5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598B4F-67BA-4EF7-96A5-F5578C0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BEBA-0A56-4807-9D86-F600A594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2B59BC-962A-46D5-9285-195292F5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D71A1B-3DB9-4B8D-9978-150F45D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BAD5FE-DF9D-43EC-8E38-F801EFA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D2D23C-89C8-4EB8-A425-620CE449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856BE0-8676-42C5-B95D-5A14F16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BC039E-4E5C-408D-88A1-9F5CD706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AA0E88-6CCA-419B-9A8F-0D1F8A11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37659A-6353-48F2-8373-1F3B4E48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45218-A37F-48C1-8D21-F2BA5104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A663A1-638F-4984-835E-1410512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4ECD-D467-4BC1-AF42-EAA9086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5FFB9-D26F-452A-B93B-10C860E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88A42D-214B-4772-A8E6-255D987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FAE770-BFB4-403B-908F-25B4B1FE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A283E8-71C6-421F-B004-8D0A30B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D0B796-7C25-4720-A59A-EEEAF51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EAFA56-5CA5-4761-AAD0-598B395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81CA30-1855-49A3-B774-732DC86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F336BD-7895-43DA-B6DE-B6085FE4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B41DF4-5287-4CDD-8016-88C5CD27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77691F-30DB-43E2-9E60-F777C819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25B7-92EC-456D-949F-5C10A0DC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3417AF-CEDE-4C36-ACA6-B46104DA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B50D54-4188-4683-A346-D4AEFB91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8CAD0C-C3FF-44E9-938D-2A4DC86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3D4E20-E691-4E58-AEF5-5FBFA71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4A917B-8DAC-47B3-B3BE-DA952C88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50A388-2A8B-4B5F-B86F-17B7651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33ED8B-E2D2-406A-A49A-B349FD1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3489DA-1CF1-470A-8450-B7545BD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E4AFA6-88AB-49FD-9552-DF75E150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18799B-E144-4928-BB49-479E857C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4BF4-096F-4D63-BBE8-A1A4A7FA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A98BF0-5302-4742-99A5-94413126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AF3758-3127-4071-ABDE-81223B2C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B7E6A9-6EA8-4C62-91FE-2FF14F8F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9FAE81-FA99-4FFB-9C74-2E8F865C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3BA47E-CD19-4DAA-A9F5-31C8E738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2A7736-0963-4A56-B773-FCA4AA1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9834B0-D3F3-4C0B-9F97-E993A4CC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56F555-F208-41B1-B078-13710E3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CF36E7-A944-43CE-AC9C-F1965BCD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E032F7-38D2-4650-838A-F495956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E85C-40E6-4EA4-AFEA-AB77C336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918922-5344-4D89-AB1E-825D2F44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E84FF3-1CFE-468E-8565-3CBD2988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196FC9-2680-4B30-A8F5-731CB8C2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625F-1D3C-4D4E-806E-9D320D62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C1E5-E2C8-4ECF-9246-CDF9574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E5B-42CD-457D-AB8F-4981D3E1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9FFC-302B-4F67-8B86-9782C115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971D-734C-4C10-8C5D-BAAD4DCC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9EDF-D60E-4B78-93BC-2A0885D7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0A4C-F466-4B43-B28C-F01EF6CA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73B2-32CA-44C9-A0A0-3E39B4A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E183-04ED-46C7-B344-C89D473C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6265-FC7D-4B39-8B76-BA4DE58E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0D7A-CA7A-44EF-916C-6D647994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88400-24DA-472C-BEC4-D5A1F938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C9C8-E8D6-49F9-8351-B032419F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E7A-FD0C-4853-B7E6-D03DB730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B6196-0157-4392-B2EB-CC3A517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BE94-0062-4912-9394-34D7F199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FD991-6B41-42CE-AE53-DC7095D5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6177-1C4D-4690-9184-51FA90B1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BDA7-6CE7-4F0F-B4CE-19D07E25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E0C6-3E49-4E69-9030-556A4AE4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BFFC-3B85-478F-8CE6-A307737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6229-86D8-4445-8FC5-BA0CE391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27C5C-8899-4F33-9CA2-5211AA78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5F33-5188-4605-824E-F1C614A9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3DD-C8D0-4F32-86FB-60D6A495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4A9D-FB35-4B62-8A57-C0CDB4F4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E15A-0586-4CA9-999E-651FC3AD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2ACBC-D6B0-4CB2-A201-357C359C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894D-C65A-4307-B6A2-6A0AFF4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54E46-9066-4FE0-8BDD-760BC03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ECC7-3258-4485-B8F3-DD5EEA6B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90814-2E4A-4632-9F74-2D899B13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C05DB-A402-4431-9AE6-DD23AAA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E9354-4408-4AEF-A6B2-5C6637F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ADA06-64F4-4EF3-B994-F111FA2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2C2-F501-4D98-85F1-9AE4042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EB7D8-9A59-4360-966A-6FB4E7B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18429-9A6B-432B-BBF4-BC09A2E8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4D91F-C105-4203-843B-0F0B8E60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22A98-2303-41FF-B84A-BA15764C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ECFA6-ABC4-494D-93AC-E6D5350B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6A6C-DE66-464B-A792-1A59206C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A62F1-CCD3-4330-8F56-6EF20DB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D7216-75FD-4870-AB28-CF1716A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CA430-6C8A-4236-BD29-91B94310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7E4B-BC43-42C1-9611-B59E9A4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42E-882A-4EE2-AA32-8404F4B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6B672-8996-4BB8-A9F8-F94D9A88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6F69F-7FE6-4668-A651-8F55562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91611-D3AF-4244-8060-A1CEA40E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10044-2262-413A-8E29-6A759B01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C462F-F80F-44DE-A98E-86774509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65CC-3925-4FBB-AEB7-6892680E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CEFE-7787-434D-8189-990504C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0016-5FB9-4BCF-AD1D-5AD88C87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495FA-326A-4DE8-935B-43E4D016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8ED2-05D7-4B8E-A4F6-C431904B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DAA-7BDF-4B8F-A5DF-40AB195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5CE4B-473A-42F4-BCF0-A3EA6A99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6DF73-A43B-4843-BFA4-3FD09DD3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5876E-C3D3-407F-8746-A255E01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EF704-6CB3-4D56-BF21-262B24AD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321C0-6E32-4607-A696-F9629DA9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9EC1-CC5F-4C33-B655-372E316A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66F40-1B15-4E3F-B1B5-89A17C44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C8DB8-F040-4E45-AE97-5B0AAB8C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ADB26-08BF-4A81-B267-FAED7EA9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B9C3-9DE3-43D3-8DDC-68E5F140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A57A-C3B5-494E-A430-A24413551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86D2-988B-4FF3-99BF-229770A6DC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F47A-7425-4EA4-8893-4DF2746A2C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6B44-0E40-41CE-B7A6-FFA7C9219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DB8-4873-4000-9290-B601FCF8E9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B0FB-6BA7-4045-A54B-AC49E92A1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4765-7CC5-4877-A4C6-A6A0EB52E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6AD8-6590-4273-B615-DF89CC6F3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341A-E580-440E-966B-6591A35224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D3B8-7F5D-42C5-8B2F-F64927C544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4163-E100-4E5B-BE32-FC5A900A9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81C4-1ED6-4A0D-8C0F-06610C7C0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51BD-DB9F-496D-9CD0-F0887F5E1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08C-30DE-470B-B9AC-4F7577B7E0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B888-9FF9-4B2E-878E-CA68EE00A9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E4A1-7DAB-4663-8B94-CD5F83B014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C6EF-16AF-4A32-9BAC-3D8BD2569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EAD4-9333-480C-ABCC-D911BC91B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977A-3103-4C55-AB41-AFBF6DE7E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D304-4E98-41CA-9003-06CD60885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B65-48FB-443F-8376-DE825669C0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53E7-196F-43EB-95CC-79DDE683EF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2BE5-B395-491F-A235-A1947E43B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2D36-C263-4B3F-AD2E-72A85E88E3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A504-A9EB-4678-BAD5-B808A8575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5D0-FBCB-4D51-8C1A-62703E71E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70D8-48BE-4DAD-998A-CF715B222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BE1-4CA6-4481-87A0-ACFB3EED3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DBC5-075D-4E90-9B98-C44628F6F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A458-302F-409A-AFAC-8782B2830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03AA-213F-4CA5-97FC-1A89DDC18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98FC-779E-4743-B076-72E8B7CC20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7AC4-AE19-4BCD-B802-FCB92FD0BD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797-9A72-4D05-B9B9-82A193F3C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5E60-4C0A-4BA7-89A6-67060BB768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1A1A-F037-4FA3-B15B-476BABE3BE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C9FD-D42B-46D7-A5B1-FBD60A4DD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40A-AD77-411E-BF94-89DEB53CD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EBE9-4FFB-4AC6-8784-DF8B57E6C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899-4617-4EF4-86D0-66F9132540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2F7D-236E-406A-A839-7C1FB295E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0795-8A3E-4AFE-95A0-E2E4C5B6E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DC36-234C-4C84-8685-9EBD6DDEE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99F-7828-4492-B26B-7DE76399E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DAE2-8218-4D0C-BB7E-D0D1BE065D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77A-83BD-4EC5-85EB-265D5389F2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8808-BC47-457A-9214-52DC2A5FF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71E1-9DF7-4E02-BB1A-412670CF4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5655-EFC0-4D3C-8A57-BD8F99A6AD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28BA-05AD-43DA-AC40-781F6B3EC5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075040" y="1111320"/>
            <a:ext cx="3724200" cy="13334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6" descr=""/>
          <p:cNvPicPr/>
          <p:nvPr/>
        </p:nvPicPr>
        <p:blipFill>
          <a:blip r:embed="rId2"/>
          <a:stretch/>
        </p:blipFill>
        <p:spPr>
          <a:xfrm>
            <a:off x="2419200" y="3292560"/>
            <a:ext cx="3009960" cy="268596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7"/>
          <p:cNvSpPr/>
          <p:nvPr/>
        </p:nvSpPr>
        <p:spPr>
          <a:xfrm>
            <a:off x="3460680" y="4849920"/>
            <a:ext cx="208620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8"/>
          <p:cNvSpPr/>
          <p:nvPr/>
        </p:nvSpPr>
        <p:spPr>
          <a:xfrm>
            <a:off x="2249640" y="5465880"/>
            <a:ext cx="208584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图片 132097" descr=""/>
          <p:cNvPicPr/>
          <p:nvPr/>
        </p:nvPicPr>
        <p:blipFill>
          <a:blip r:embed="rId1"/>
          <a:stretch/>
        </p:blipFill>
        <p:spPr>
          <a:xfrm>
            <a:off x="185760" y="907920"/>
            <a:ext cx="8010360" cy="4457880"/>
          </a:xfrm>
          <a:prstGeom prst="rect">
            <a:avLst/>
          </a:prstGeom>
          <a:ln w="0">
            <a:noFill/>
          </a:ln>
        </p:spPr>
      </p:pic>
      <p:sp>
        <p:nvSpPr>
          <p:cNvPr id="1385" name="矩形 132098"/>
          <p:cNvSpPr/>
          <p:nvPr/>
        </p:nvSpPr>
        <p:spPr>
          <a:xfrm>
            <a:off x="1241280" y="2301840"/>
            <a:ext cx="4881600" cy="8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2099"/>
          <p:cNvSpPr/>
          <p:nvPr/>
        </p:nvSpPr>
        <p:spPr>
          <a:xfrm>
            <a:off x="1201680" y="4727520"/>
            <a:ext cx="4881600" cy="8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图片 131073" descr=""/>
          <p:cNvPicPr/>
          <p:nvPr/>
        </p:nvPicPr>
        <p:blipFill>
          <a:blip r:embed="rId1"/>
          <a:stretch/>
        </p:blipFill>
        <p:spPr>
          <a:xfrm>
            <a:off x="128520" y="846000"/>
            <a:ext cx="8124840" cy="3286440"/>
          </a:xfrm>
          <a:prstGeom prst="rect">
            <a:avLst/>
          </a:prstGeom>
          <a:ln w="0">
            <a:noFill/>
          </a:ln>
        </p:spPr>
      </p:pic>
      <p:sp>
        <p:nvSpPr>
          <p:cNvPr id="1388" name="矩形 131074"/>
          <p:cNvSpPr/>
          <p:nvPr/>
        </p:nvSpPr>
        <p:spPr>
          <a:xfrm>
            <a:off x="1305000" y="2867040"/>
            <a:ext cx="42750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1075"/>
          <p:cNvSpPr/>
          <p:nvPr/>
        </p:nvSpPr>
        <p:spPr>
          <a:xfrm>
            <a:off x="2568600" y="3770280"/>
            <a:ext cx="13050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图片 130049" descr=""/>
          <p:cNvPicPr/>
          <p:nvPr/>
        </p:nvPicPr>
        <p:blipFill>
          <a:blip r:embed="rId1"/>
          <a:stretch/>
        </p:blipFill>
        <p:spPr>
          <a:xfrm>
            <a:off x="665280" y="873000"/>
            <a:ext cx="4562280" cy="3333960"/>
          </a:xfrm>
          <a:prstGeom prst="rect">
            <a:avLst/>
          </a:prstGeom>
          <a:ln w="0">
            <a:noFill/>
          </a:ln>
        </p:spPr>
      </p:pic>
      <p:sp>
        <p:nvSpPr>
          <p:cNvPr id="1391" name="矩形 130050"/>
          <p:cNvSpPr/>
          <p:nvPr/>
        </p:nvSpPr>
        <p:spPr>
          <a:xfrm>
            <a:off x="1128600" y="1490760"/>
            <a:ext cx="375120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0051"/>
          <p:cNvSpPr/>
          <p:nvPr/>
        </p:nvSpPr>
        <p:spPr>
          <a:xfrm>
            <a:off x="2176560" y="2373480"/>
            <a:ext cx="3751200" cy="68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0052"/>
          <p:cNvSpPr/>
          <p:nvPr/>
        </p:nvSpPr>
        <p:spPr>
          <a:xfrm>
            <a:off x="2187720" y="3338640"/>
            <a:ext cx="3751200" cy="68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图片 129025" descr=""/>
          <p:cNvPicPr/>
          <p:nvPr/>
        </p:nvPicPr>
        <p:blipFill>
          <a:blip r:embed="rId1"/>
          <a:stretch/>
        </p:blipFill>
        <p:spPr>
          <a:xfrm>
            <a:off x="309600" y="982800"/>
            <a:ext cx="80676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图片 128001" descr=""/>
          <p:cNvPicPr/>
          <p:nvPr/>
        </p:nvPicPr>
        <p:blipFill>
          <a:blip r:embed="rId1"/>
          <a:stretch/>
        </p:blipFill>
        <p:spPr>
          <a:xfrm>
            <a:off x="539640" y="952560"/>
            <a:ext cx="7658280" cy="3962520"/>
          </a:xfrm>
          <a:prstGeom prst="rect">
            <a:avLst/>
          </a:prstGeom>
          <a:ln w="0">
            <a:noFill/>
          </a:ln>
        </p:spPr>
      </p:pic>
      <p:sp>
        <p:nvSpPr>
          <p:cNvPr id="1396" name="矩形 128002"/>
          <p:cNvSpPr/>
          <p:nvPr/>
        </p:nvSpPr>
        <p:spPr>
          <a:xfrm>
            <a:off x="625320" y="884160"/>
            <a:ext cx="765504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8003"/>
          <p:cNvSpPr/>
          <p:nvPr/>
        </p:nvSpPr>
        <p:spPr>
          <a:xfrm>
            <a:off x="441360" y="1922400"/>
            <a:ext cx="7645320" cy="11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8004"/>
          <p:cNvSpPr/>
          <p:nvPr/>
        </p:nvSpPr>
        <p:spPr>
          <a:xfrm>
            <a:off x="531720" y="3133800"/>
            <a:ext cx="765504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8005"/>
          <p:cNvSpPr/>
          <p:nvPr/>
        </p:nvSpPr>
        <p:spPr>
          <a:xfrm>
            <a:off x="490680" y="4068720"/>
            <a:ext cx="765468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图片 140289" descr=""/>
          <p:cNvPicPr/>
          <p:nvPr/>
        </p:nvPicPr>
        <p:blipFill>
          <a:blip r:embed="rId1"/>
          <a:stretch/>
        </p:blipFill>
        <p:spPr>
          <a:xfrm>
            <a:off x="295200" y="936720"/>
            <a:ext cx="8477280" cy="508608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0"/>
          <p:cNvSpPr/>
          <p:nvPr/>
        </p:nvSpPr>
        <p:spPr>
          <a:xfrm>
            <a:off x="5300640" y="1747800"/>
            <a:ext cx="5968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1"/>
          <p:cNvSpPr/>
          <p:nvPr/>
        </p:nvSpPr>
        <p:spPr>
          <a:xfrm>
            <a:off x="3019320" y="2127240"/>
            <a:ext cx="4730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2"/>
          <p:cNvSpPr/>
          <p:nvPr/>
        </p:nvSpPr>
        <p:spPr>
          <a:xfrm>
            <a:off x="4745160" y="2127240"/>
            <a:ext cx="4730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3"/>
          <p:cNvSpPr/>
          <p:nvPr/>
        </p:nvSpPr>
        <p:spPr>
          <a:xfrm>
            <a:off x="6132600" y="2127240"/>
            <a:ext cx="87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4"/>
          <p:cNvSpPr/>
          <p:nvPr/>
        </p:nvSpPr>
        <p:spPr>
          <a:xfrm>
            <a:off x="3903840" y="2549520"/>
            <a:ext cx="5968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5"/>
          <p:cNvSpPr/>
          <p:nvPr/>
        </p:nvSpPr>
        <p:spPr>
          <a:xfrm>
            <a:off x="5433840" y="2940120"/>
            <a:ext cx="5972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6"/>
          <p:cNvSpPr/>
          <p:nvPr/>
        </p:nvSpPr>
        <p:spPr>
          <a:xfrm>
            <a:off x="7612200" y="2940120"/>
            <a:ext cx="5968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7"/>
          <p:cNvSpPr/>
          <p:nvPr/>
        </p:nvSpPr>
        <p:spPr>
          <a:xfrm>
            <a:off x="3008160" y="3875040"/>
            <a:ext cx="5968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8"/>
          <p:cNvSpPr/>
          <p:nvPr/>
        </p:nvSpPr>
        <p:spPr>
          <a:xfrm>
            <a:off x="5649840" y="3875040"/>
            <a:ext cx="5968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9"/>
          <p:cNvSpPr/>
          <p:nvPr/>
        </p:nvSpPr>
        <p:spPr>
          <a:xfrm>
            <a:off x="1581120" y="4923000"/>
            <a:ext cx="8222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300"/>
          <p:cNvSpPr/>
          <p:nvPr/>
        </p:nvSpPr>
        <p:spPr>
          <a:xfrm>
            <a:off x="2916360" y="4952880"/>
            <a:ext cx="4521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301"/>
          <p:cNvSpPr/>
          <p:nvPr/>
        </p:nvSpPr>
        <p:spPr>
          <a:xfrm>
            <a:off x="3830760" y="4952880"/>
            <a:ext cx="4521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302"/>
          <p:cNvSpPr/>
          <p:nvPr/>
        </p:nvSpPr>
        <p:spPr>
          <a:xfrm>
            <a:off x="1560600" y="5621400"/>
            <a:ext cx="8222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40303"/>
          <p:cNvSpPr/>
          <p:nvPr/>
        </p:nvSpPr>
        <p:spPr>
          <a:xfrm>
            <a:off x="3008160" y="5621400"/>
            <a:ext cx="65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40304"/>
          <p:cNvSpPr/>
          <p:nvPr/>
        </p:nvSpPr>
        <p:spPr>
          <a:xfrm>
            <a:off x="3951360" y="5621400"/>
            <a:ext cx="5158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9265" descr=""/>
          <p:cNvPicPr/>
          <p:nvPr/>
        </p:nvPicPr>
        <p:blipFill>
          <a:blip r:embed="rId1"/>
          <a:stretch/>
        </p:blipFill>
        <p:spPr>
          <a:xfrm>
            <a:off x="309600" y="990720"/>
            <a:ext cx="8524800" cy="4572000"/>
          </a:xfrm>
          <a:prstGeom prst="rect">
            <a:avLst/>
          </a:prstGeom>
          <a:ln w="0">
            <a:noFill/>
          </a:ln>
        </p:spPr>
      </p:pic>
      <p:sp>
        <p:nvSpPr>
          <p:cNvPr id="1352" name="矩形 139266"/>
          <p:cNvSpPr/>
          <p:nvPr/>
        </p:nvSpPr>
        <p:spPr>
          <a:xfrm>
            <a:off x="8280360" y="1778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9267"/>
          <p:cNvSpPr/>
          <p:nvPr/>
        </p:nvSpPr>
        <p:spPr>
          <a:xfrm>
            <a:off x="8248680" y="28465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9268"/>
          <p:cNvSpPr/>
          <p:nvPr/>
        </p:nvSpPr>
        <p:spPr>
          <a:xfrm>
            <a:off x="8300880" y="3781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8241" descr=""/>
          <p:cNvPicPr/>
          <p:nvPr/>
        </p:nvPicPr>
        <p:blipFill>
          <a:blip r:embed="rId1"/>
          <a:stretch/>
        </p:blipFill>
        <p:spPr>
          <a:xfrm>
            <a:off x="555480" y="876240"/>
            <a:ext cx="8439120" cy="525780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8242"/>
          <p:cNvSpPr/>
          <p:nvPr/>
        </p:nvSpPr>
        <p:spPr>
          <a:xfrm>
            <a:off x="8454960" y="822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3"/>
          <p:cNvSpPr/>
          <p:nvPr/>
        </p:nvSpPr>
        <p:spPr>
          <a:xfrm>
            <a:off x="5516640" y="1952640"/>
            <a:ext cx="51444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4"/>
          <p:cNvSpPr/>
          <p:nvPr/>
        </p:nvSpPr>
        <p:spPr>
          <a:xfrm>
            <a:off x="2465280" y="2610000"/>
            <a:ext cx="51444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5"/>
          <p:cNvSpPr/>
          <p:nvPr/>
        </p:nvSpPr>
        <p:spPr>
          <a:xfrm>
            <a:off x="4427640" y="272268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6"/>
          <p:cNvSpPr/>
          <p:nvPr/>
        </p:nvSpPr>
        <p:spPr>
          <a:xfrm>
            <a:off x="801720" y="4048200"/>
            <a:ext cx="1706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7"/>
          <p:cNvSpPr/>
          <p:nvPr/>
        </p:nvSpPr>
        <p:spPr>
          <a:xfrm>
            <a:off x="4819680" y="4057560"/>
            <a:ext cx="1706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48"/>
          <p:cNvSpPr/>
          <p:nvPr/>
        </p:nvSpPr>
        <p:spPr>
          <a:xfrm>
            <a:off x="874800" y="5556240"/>
            <a:ext cx="158256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8249"/>
          <p:cNvSpPr/>
          <p:nvPr/>
        </p:nvSpPr>
        <p:spPr>
          <a:xfrm>
            <a:off x="4862520" y="5546880"/>
            <a:ext cx="158256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7217" descr=""/>
          <p:cNvPicPr/>
          <p:nvPr/>
        </p:nvPicPr>
        <p:blipFill>
          <a:blip r:embed="rId1"/>
          <a:stretch/>
        </p:blipFill>
        <p:spPr>
          <a:xfrm>
            <a:off x="355680" y="882720"/>
            <a:ext cx="8001000" cy="445752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7218"/>
          <p:cNvSpPr/>
          <p:nvPr/>
        </p:nvSpPr>
        <p:spPr>
          <a:xfrm>
            <a:off x="7632720" y="2097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7219"/>
          <p:cNvSpPr/>
          <p:nvPr/>
        </p:nvSpPr>
        <p:spPr>
          <a:xfrm>
            <a:off x="7602480" y="3916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6193" descr=""/>
          <p:cNvPicPr/>
          <p:nvPr/>
        </p:nvPicPr>
        <p:blipFill>
          <a:blip r:embed="rId1"/>
          <a:stretch/>
        </p:blipFill>
        <p:spPr>
          <a:xfrm>
            <a:off x="241200" y="893880"/>
            <a:ext cx="8077320" cy="509580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6194"/>
          <p:cNvSpPr/>
          <p:nvPr/>
        </p:nvSpPr>
        <p:spPr>
          <a:xfrm>
            <a:off x="7488360" y="965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6195"/>
          <p:cNvSpPr/>
          <p:nvPr/>
        </p:nvSpPr>
        <p:spPr>
          <a:xfrm>
            <a:off x="1211400" y="3494160"/>
            <a:ext cx="585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6196"/>
          <p:cNvSpPr/>
          <p:nvPr/>
        </p:nvSpPr>
        <p:spPr>
          <a:xfrm>
            <a:off x="3554280" y="5086440"/>
            <a:ext cx="586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135169" descr=""/>
          <p:cNvPicPr/>
          <p:nvPr/>
        </p:nvPicPr>
        <p:blipFill>
          <a:blip r:embed="rId1"/>
          <a:stretch/>
        </p:blipFill>
        <p:spPr>
          <a:xfrm>
            <a:off x="189000" y="898560"/>
            <a:ext cx="5972040" cy="3181320"/>
          </a:xfrm>
          <a:prstGeom prst="rect">
            <a:avLst/>
          </a:prstGeom>
          <a:ln w="0">
            <a:noFill/>
          </a:ln>
        </p:spPr>
      </p:pic>
      <p:sp>
        <p:nvSpPr>
          <p:cNvPr id="1372" name="矩形 135170"/>
          <p:cNvSpPr/>
          <p:nvPr/>
        </p:nvSpPr>
        <p:spPr>
          <a:xfrm>
            <a:off x="1263600" y="2384280"/>
            <a:ext cx="44481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1"/>
          <p:cNvSpPr/>
          <p:nvPr/>
        </p:nvSpPr>
        <p:spPr>
          <a:xfrm>
            <a:off x="2394000" y="3359160"/>
            <a:ext cx="16430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图片 134145" descr=""/>
          <p:cNvPicPr/>
          <p:nvPr/>
        </p:nvPicPr>
        <p:blipFill>
          <a:blip r:embed="rId1"/>
          <a:stretch/>
        </p:blipFill>
        <p:spPr>
          <a:xfrm>
            <a:off x="698400" y="909720"/>
            <a:ext cx="4800600" cy="3286080"/>
          </a:xfrm>
          <a:prstGeom prst="rect">
            <a:avLst/>
          </a:prstGeom>
          <a:ln w="0">
            <a:noFill/>
          </a:ln>
        </p:spPr>
      </p:pic>
      <p:sp>
        <p:nvSpPr>
          <p:cNvPr id="1375" name="矩形 134146"/>
          <p:cNvSpPr/>
          <p:nvPr/>
        </p:nvSpPr>
        <p:spPr>
          <a:xfrm>
            <a:off x="1160640" y="1890720"/>
            <a:ext cx="432720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4147"/>
          <p:cNvSpPr/>
          <p:nvPr/>
        </p:nvSpPr>
        <p:spPr>
          <a:xfrm>
            <a:off x="2146320" y="2836800"/>
            <a:ext cx="432756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4148"/>
          <p:cNvSpPr/>
          <p:nvPr/>
        </p:nvSpPr>
        <p:spPr>
          <a:xfrm>
            <a:off x="2352600" y="3762360"/>
            <a:ext cx="10922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图片 133121" descr=""/>
          <p:cNvPicPr/>
          <p:nvPr/>
        </p:nvPicPr>
        <p:blipFill>
          <a:blip r:embed="rId1"/>
          <a:stretch/>
        </p:blipFill>
        <p:spPr>
          <a:xfrm>
            <a:off x="728640" y="793800"/>
            <a:ext cx="5324400" cy="5371920"/>
          </a:xfrm>
          <a:prstGeom prst="rect">
            <a:avLst/>
          </a:prstGeom>
          <a:ln w="0">
            <a:noFill/>
          </a:ln>
        </p:spPr>
      </p:pic>
      <p:sp>
        <p:nvSpPr>
          <p:cNvPr id="1379" name="矩形 133122"/>
          <p:cNvSpPr/>
          <p:nvPr/>
        </p:nvSpPr>
        <p:spPr>
          <a:xfrm>
            <a:off x="1263600" y="1695600"/>
            <a:ext cx="454176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3123"/>
          <p:cNvSpPr/>
          <p:nvPr/>
        </p:nvSpPr>
        <p:spPr>
          <a:xfrm>
            <a:off x="2146320" y="2548080"/>
            <a:ext cx="454176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3124"/>
          <p:cNvSpPr/>
          <p:nvPr/>
        </p:nvSpPr>
        <p:spPr>
          <a:xfrm>
            <a:off x="2116080" y="3565440"/>
            <a:ext cx="45417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3125"/>
          <p:cNvSpPr/>
          <p:nvPr/>
        </p:nvSpPr>
        <p:spPr>
          <a:xfrm>
            <a:off x="2157480" y="4459320"/>
            <a:ext cx="45417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6"/>
          <p:cNvSpPr/>
          <p:nvPr/>
        </p:nvSpPr>
        <p:spPr>
          <a:xfrm>
            <a:off x="2301840" y="5413320"/>
            <a:ext cx="45417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04:56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